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4A7A-925D-473A-B94D-BD5555FF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3D74-70B3-4BA1-ABF2-27FE9C20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16FD-092E-4B90-9C21-BBF7CBBA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0F56-8E56-4A16-8117-8F1CE628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1902-FA5F-4ABB-9C66-0F06EE21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8049-77EE-4F1E-986E-F0D8709C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CD81-13F7-44DF-A265-BD35E91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7F7F-326E-4A6C-8972-885169BC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9AFA-AC09-486B-A625-1549DA7B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E992-52DB-46E7-B968-2B389BB6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3E69-8035-4288-B502-2A94BD76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FB50-3B83-4123-AF48-FEF93E89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1B24-8AFA-4FF5-B375-B0194BE5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E087-5950-4282-A807-D1FCC6D0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36CA-D83D-419F-9A00-4219DA34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C4F3-E1E4-46E3-85AF-F7ED903F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622C-1950-4853-B8C3-A9D86BD8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BCFE-8CD1-4869-B853-344AB141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FA7C-9E40-4D1A-9C26-FE38405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2ACE-96A0-4B5C-817E-E9A7C322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18D5-2145-4D1A-914A-AED9D695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254D-76AF-4607-9EC0-EB5998A9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19F4-2FAD-4174-BDA9-091D84F0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1FA9-89B5-45B5-AB0A-18A4676E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8046-9C52-4ECB-9883-6061AD3C69D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0F3D-9945-47F1-B1C0-462B5CA639D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73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86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Бог е благ!" - тъй всеки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зва всичко окол' нас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!" - цветчета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шепнат и дръвчета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благ,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!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ка всичко окол' нас.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, Бог е бла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 хвалете наший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62720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„Бог е благ!" - пей птичкат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сладко във горичката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!" - поточето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ромоли под мостчето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благ,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!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ка всичко окол' нас.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, Бог е бла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 хвалете наший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„Бог е благ!" - звездичките проповядват всичките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!" - и месец с мощ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ни повтаря всяка нощ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благ,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!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ка всичко окол' нас.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, Бог е бла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 хвалете наший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4. „Бог е благ!" - детенце пей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и щастливо то се смей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!" - да викнеме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сички да запееме!</a:t>
            </a:r>
            <a:r>
              <a:rPr b="0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благ,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!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ка всичко окол' нас.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благ, Бог е бла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 хвалете наший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2-13T07:43:21Z</dcterms:modified>
  <cp:revision>208</cp:revision>
  <dc:subject/>
  <dc:title>Slide 1</dc:title>
</cp:coreProperties>
</file>